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2DC-5558-4F0F-BC10-76989420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FF6-1898-4A88-8B39-B8AE4DF5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183-7BA5-4B3F-9201-D84277EC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22C-352B-4C65-B9A8-0B3B0E55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3AA-1AE8-4AD8-8ED8-C166DDE6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A28-1206-4439-9FB5-099B5053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F16-0281-4817-BAC4-90BBF93B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19B-7D7F-4AC6-96A7-E0BE2057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210-1A31-43CC-8602-4390572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ACA-1BDB-469C-B3DA-413AEAE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9FC-B3BB-4C44-BDD8-06FFE2E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AA3-0706-4BC2-AE12-CE99EB4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2DC4-E375-4C83-B832-DE036BA18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Фототерапиј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0040" y="1162080"/>
            <a:ext cx="815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УЛТРАВИОЛЕТНИ ЗР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д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зв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Су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Вeштачки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р UV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ka ,,kвa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,, ламп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д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A (UVA) talasne dužine 380 - 315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B (UVB) talasne dužine 315 - 28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C (UVC) talasne dužine 280 - 13,6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Билошко </a:t>
            </a:r>
            <a:r>
              <a:rPr b="1" lang="sr-CS" sz="28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физиолошко дејство УВ з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отoхемијс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н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мен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ос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тoмa (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в.Д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за хлoрo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,об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ују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радикали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k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ajу се eн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oбaђaњe х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ми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oтo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нo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њe eл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тeжe 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oм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o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лaзak k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и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 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тaњa с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у геl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н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a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јa бe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e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луоресценције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њ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ko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a деплaси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е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ек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н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ј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т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(kор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д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к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х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1924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азвој ери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тимулација регенерације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брзање гранулације еп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бактерицид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38400" y="121932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Локалн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38400" y="5922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Општ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4120" y="1521000"/>
            <a:ext cx="83502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имунит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броја еритроцита и хемоглобин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рмализује х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ерол,гликемиј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a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ација ЦНС И ВНС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ише функцију полних жлед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шт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ст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б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0" y="3887640"/>
            <a:ext cx="66103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Терапијск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регенерације (епителизација)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38400" y="1219320"/>
            <a:ext cx="6610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ФОТОСЕНЗИБИЛИЗАТОР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62240" y="2597040"/>
            <a:ext cx="63309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догени-жучне боје, порфирин, тироксин, гонадотропни хормони, адреналин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гзогени-соли тешких метала, пеницилин, антибиотици, сулфонамиди, риванол, еозин, соли злата и др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60520" y="2010960"/>
            <a:ext cx="62229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а индивидуалне и регионалне осетљиво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јмање трајање зрач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 одређеном кварцном лампом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са одређеног растојањ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је изазива праговни еритем.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ражава се  у минутима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дo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р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772240" y="4791240"/>
            <a:ext cx="1008000" cy="1670040"/>
            <a:chOff x="5772240" y="4791240"/>
            <a:chExt cx="1008000" cy="1670040"/>
          </a:xfrm>
        </p:grpSpPr>
        <p:sp>
          <p:nvSpPr>
            <p:cNvPr id="107" name="Rectangle 6"/>
            <p:cNvSpPr/>
            <p:nvPr/>
          </p:nvSpPr>
          <p:spPr>
            <a:xfrm>
              <a:off x="5848200" y="4791240"/>
              <a:ext cx="932040" cy="167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5972040" y="4933800"/>
              <a:ext cx="662040" cy="314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972040" y="545796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972040" y="594360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72240" y="4962600"/>
              <a:ext cx="60012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60240" y="2460240"/>
            <a:ext cx="7707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тепен ерит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ремe зрачeњa у ми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одo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2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 ми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озирање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60520" y="2305080"/>
            <a:ext cx="622296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беритемна доза-1/2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незнатно 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ритемна доза 1-3 биодозе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переритемно 3-5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еритем јаког степена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тко се примењује-кожна обољењ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17280" y="2685960"/>
            <a:ext cx="4986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коваленсц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после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х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12366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опште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2520" y="2099880"/>
            <a:ext cx="8325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жне болести 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ае вулгарис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лоп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а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ориас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декуб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уролошке болести - неуралгиа, неурит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рвик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умб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еуматолошке болести - дегенеративни реуматизам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ванзглобни реуматизам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шке болести - адн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с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тис, дисменоре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аскуларна хирургија - торпидне ране на васкуларној основи, у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с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ур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мологија - блефаритис, трахо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ортопедија - стања после фр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туре костију, повреде меких 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38400" y="9604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Фототерапија је примена светлосне енергије Сунца или вештачких извора светлости у циљу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Светлосни зраци су материјалне природе, састоје се од честица,фотона,који при кретању кроз простор представљају одређени квант светлосне енергије-светлосни кв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Величина светлосног кванта енергије зависи од таласне дужине </a:t>
            </a:r>
            <a:r>
              <a:rPr b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л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одређене врсте светлосног зрачења према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6"/>
          <p:cNvGraphicFramePr/>
          <p:nvPr/>
        </p:nvGraphicFramePr>
        <p:xfrm>
          <a:off x="1990800" y="2978280"/>
          <a:ext cx="506556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978280"/>
                    <a:ext cx="5065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Object 19"/>
          <p:cNvGraphicFramePr/>
          <p:nvPr/>
        </p:nvGraphicFramePr>
        <p:xfrm>
          <a:off x="1014480" y="3906720"/>
          <a:ext cx="30960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3906720"/>
                    <a:ext cx="309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22"/>
          <p:cNvSpPr/>
          <p:nvPr/>
        </p:nvSpPr>
        <p:spPr>
          <a:xfrm>
            <a:off x="1374840" y="3870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ветлосни квант (енергиј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971640" y="4479840"/>
            <a:ext cx="792144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h = 6,6226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S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ланковa koнстaнтa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лaснa д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ж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sr-Latn-C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еквeнциј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300 000 km/sec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рзина простирaњa светлoсти у вaкуму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889360" y="4425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imes New Roman"/>
              </a:rPr>
              <a:t>-34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3040" y="17384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тивна ТБЦ плућ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тиреод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шећерна бол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ихијат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хексиј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отогене болести коже - пелагра, лупус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ладе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е виталних органа – срца, јетр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рентген дерматити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тумори кож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витаминоза Б1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5240" y="787320"/>
            <a:ext cx="70768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44320" y="1703520"/>
            <a:ext cx="81421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A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70 - 15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B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500 - 30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C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eko 3000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Извори I</a:t>
            </a:r>
            <a:r>
              <a:rPr b="1" lang="sr-Latn-CS" sz="22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зр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а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и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дн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е Су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ц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Вeштaч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и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Лaмпa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a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цом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od 150 - 1500 W,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иj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у спирале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a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вље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 од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волфрама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Б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aњe (oкo 3000º Ц) eми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 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а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зраke ве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e en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г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olux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mpa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јaч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ф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кт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ветлоснe куп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23840" y="1876320"/>
            <a:ext cx="6073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Физиоло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ко деј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орност ИР зрака 0,5-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окалне реакције-еритем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хомог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ез латенрног период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Терапијск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тиедематозн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пазмолитич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и-гран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36720" y="1600200"/>
            <a:ext cx="647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Дозирање ИР з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Растојање 30-40 цм (субјективни осећај топло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Трајање зрачења 5-20 мин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серија 10-15 дана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пауза 10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4400" y="1911240"/>
            <a:ext cx="65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вод у ЕС, СГ, ЕФ, тракције, КТ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езије ПМН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yалги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урал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сттрауматска стања меких ткив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после 48 часов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нзглобни реуматизам, дегенеративни реумат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рункулоз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гљивична обоље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ови после екстракције зуб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ронтални и максиларни синусит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19360" y="1996920"/>
            <a:ext cx="6486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утна фебрилна ст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кутна запаљења коже 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проце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клузивна арте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нестезија коже на термичке драж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а виталних орг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кцем, дерматитис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25560" y="2030400"/>
            <a:ext cx="749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лектромагнетни зраци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Таласне дужи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ama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01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X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– 1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.V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0 – 380 n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dljivi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80 – 76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.R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760 – 1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ikr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 – 10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o 1 k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520" y="762120"/>
            <a:ext cx="81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cc00"/>
                </a:solidFill>
                <a:latin typeface="Arial"/>
              </a:rPr>
              <a:t>Елекромагнетни спектар према таласној дужини активних електромагнетних зрака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92556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Arial"/>
              </a:rPr>
              <a:t>ПОДЕЛА ФО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елиотeра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унчaњ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р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e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пијa (делoв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 бoја из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ла спeктр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т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виол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UV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IR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aс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јa (LASER - Light Amplification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Stimulated Emission of Ra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360" y="1484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нчева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 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држи 60% 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35%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љ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1-3% У.В.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2% остал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 зрaк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феkат дeловaњa Сунц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г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њ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o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ба 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ла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e ва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слoј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дм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кe 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Физиолошко деловање Су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78000" y="1989000"/>
            <a:ext cx="693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тургора кож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укција витамина 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имунобиолошке реакције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на размена гасов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равнотеженост вегетативног нервног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ње броја еритроцита, лимфоцита,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озинофил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30360" y="1380960"/>
            <a:ext cx="792144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озира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Постепен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Одређени део д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ема сунчања по Роллиер-у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Маx.3 сат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Ивдивидуална осетљивост (пол, раса, узраст, регија тел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0202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95600" y="2178000"/>
            <a:ext cx="68389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езије периферног моторног неурон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егенеративна реуматска обољењ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ориасис вулгар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рахит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охромна анем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нфекције респираторних путев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еконвалесценц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БЦ костиј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гетативни поремећаји и д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17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Контра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71880" y="2349360"/>
            <a:ext cx="581004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ективне боле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тивна ТБЦ плућ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рчани де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ензован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есници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ебрилна ста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а обољ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ња после ЦВИ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2:12Z</dcterms:modified>
  <cp:revision>40</cp:revision>
  <dc:subject/>
  <dc:title>Slide 1</dc:title>
</cp:coreProperties>
</file>